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7D4F-52A6-4C77-AD38-28942B690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Q4L3 Question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last study we left off with Saul “feeling compelled to offer the sacrifices” though he was waiting a for Samuel a legiimate priest.  He was shown that God had rejected him from being captain over his ar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tly, Israel was sorely oppressed by the Philist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lesson we will see that Jonathan meets with success against a Philistine garr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ul’s rash oat causes severe hun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at lik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Saul’s religious side is not completely l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wanting a moment of victory like his son, he does something noble-loo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an al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quires of the Lord about whether to pursue the Philistines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path from Michmash to Aija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raelites had pushed the Philistines back this f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raelites were very faint from all of this effort and ba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Saul interested in keeping his rash vow on this point, but has not been as interested in keeping the will of G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nobility in keeping his vows has long been offset by his many other poor judgment c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:47 is a summary of the battle-fronts and various enem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hapter 15 – Saul is instructed to destroy the Amaleki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area from which this battle will be fou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specific instructions of verse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what Saul did in verse 7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15:12.  Saul was at “Carmel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ight map shows location of MOUNT “Carmel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map shows correct location of the “Carme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going “down” to Gilgal  refers to the decline from the mountainous region to the Jordan vall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verse 17 – “when you were little in your own ey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22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of which Jonathan attacks the Philistine garrison is “the pass of Michma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ust a moment we will notice a picture of this Pass of Michm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see the pass of Michmash – See 1 Sam.13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photo shows some sharp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14:4  there were some sharp rocks called Bozez and Sene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ct rocks and location are not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4057920" cy="3043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133720" y="38098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e Pass of Michmas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886200" y="3352680"/>
            <a:ext cx="15228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523880" y="762120"/>
            <a:ext cx="2686320" cy="178884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in Benjamin’s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athan was in Michma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ul was in Gibe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slide will show another angle on Michm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description of the landscape described in 14:4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ake note of the faith of Jonathan as expressed in vs. 6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Jonathan is away fighting secretly for Israel, Saul is couched here in Gibea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slide looks at the area of Gibeah from satell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Gibeah is in the hill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direction from Philistia  and from Jerusa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won by Jonathan emboldened the Israeli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shifts to Beth aven 14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we see the wrecklessness of Sa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s not a good leader and decision-ma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words and actions keep Israel in trouble, even though other men give Israel their moments of vi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963-9C38-4513-9243-BFDE914F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3F7-31F5-4971-BB6F-9F62ACE1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C399-7A8B-4A49-B6CB-014F1E38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CEFF-C9F9-4A5F-AC5B-9AA8E08A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91C8-0EDF-457A-8753-8147E90B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BD31-1C14-4CDB-B325-6EC0E8B0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D03C-BC6D-4AE1-9ECE-38339603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D6AD-281A-4D9F-98AA-2103DF4F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5BEF-4696-43C5-82C6-FA583E28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4FFE-7503-4831-9A63-F32DE592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F05A-9D2B-4218-81B7-BDC9B064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A46-BD8F-4117-AECE-77F79A5C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7803-0B03-4749-9BDC-2E7E9E2D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155B-1F5E-45FE-B2A9-B6A4A012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608E-238F-4078-B7B9-96551C1A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5913-B99F-4CA8-AFFD-63702367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BAAB-1061-4635-832E-A3BF73C5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61D1-5153-44DA-B4ED-F1EB0FE5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E2F-7F69-4C95-B230-35D74FB1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761-6E6E-4518-96AC-681C4FD3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8C97-A072-4EF4-A91E-9FF92DA3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9DED-BAE4-4146-B8F1-9FC1C135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72D-72E9-41B7-B7AF-CA215602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2E8-A1AE-48F3-ABA3-86822AA6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3539-73F3-4F0B-BFFD-B7BC03FCA3F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7333-ABB1-458C-A5F7-23462859290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United Kingdom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Quarter 4, Lesson 4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 Samuel 14-1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g.13-1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734160" y="3914640"/>
            <a:ext cx="2409840" cy="2943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aul’s Order Causes 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Sam 14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Philistines being defeated, the people seize upon the spoi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y begin to eat flesh without previously bleeding the animals, which Saul endeavors to prevent   v. 31-34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builds an altar there, v. 35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aul inquires of the Lord if he may pursue the Philistines by night, but receives no answer, v. 36-37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34040" cy="6877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>
            <a:off x="1371600" y="4114800"/>
            <a:ext cx="838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2590920"/>
            <a:ext cx="2438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Michmas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Aijal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209680" y="2895480"/>
            <a:ext cx="289584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4648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 Sam.14:3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aul Feels Obligated To Curse Even His S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Sam 14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aul finds that Jonathan had tasted the honey, on which he plans to put him to death, v. 38-44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ut the people interpose, and rescue Jonathan, v. 45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aul fights against the Moabites, Ammonites, and Amalekites, v. 46-48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n account of the family of Saul, v. 49-52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5105520" y="5867280"/>
            <a:ext cx="1590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malekites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486400" y="4572000"/>
            <a:ext cx="91440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53080" y="4495680"/>
            <a:ext cx="91440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943240" y="4952880"/>
            <a:ext cx="60948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705720" y="4038480"/>
            <a:ext cx="6094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380880"/>
            <a:ext cx="3962160" cy="6096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762120"/>
            <a:ext cx="3429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fter Fighting The Philistines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aul Also Defeated th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Moabites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malekites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mmoni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460440"/>
            <a:ext cx="7424640" cy="4821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895480" y="4952880"/>
            <a:ext cx="1295640" cy="381240"/>
          </a:xfrm>
          <a:prstGeom prst="ellipse">
            <a:avLst/>
          </a:prstGeom>
          <a:noFill/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56386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aul is instructed to destroy all the Amalekit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ssion Against Amaleki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Sam 15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amuel sends Saul to destroy the Amalekites, and all their substance, v. 1-3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aul collects an immense army and comes against their city, v. 4-5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desires the Kenites to remove from among the Amalekites, v. 6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strikes the Amalekites, and takes their king, Agag, as prisoner, and saves the best of the spoil, v. 7-9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95920" cy="3695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419720" y="1600200"/>
            <a:ext cx="457200" cy="4572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4429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781680" y="1066680"/>
            <a:ext cx="228600" cy="2286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457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arme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762120"/>
            <a:ext cx="228600" cy="3045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9608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5:1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35053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aul Went to Carmel and down to Gilg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219320" y="3965400"/>
            <a:ext cx="4452840" cy="2892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V="1">
            <a:off x="4114800" y="4343040"/>
            <a:ext cx="914400" cy="152388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5029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i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572000" y="5257800"/>
            <a:ext cx="1371600" cy="53352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029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ot Thi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7009920" y="1371600"/>
            <a:ext cx="685800" cy="358128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aul Rejected As K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 Sam 1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Lord is displeased, and sends Samuel to reprove him, v. 10-1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conversation between Samuel and Saul, in which Saul endeavours to justify his conduct, v. 12-23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ul is convinced that he has done wrong, and asks pardon, v. 24-3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od Prefers Obedience Over Big Schemes -22,2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od has rejected you as king” -26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muel causes Agag to be slain, for which he assigns the reasons, v. 32-3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onathan Leads Israel to Victo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Sam. 14:1-46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nathan and his armour-bearer propose to attack a garrison of the Philistines  v. 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aul and his army, with Ahiah the priest, tarry in Gibeah, v. 2-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nathan plans his attack of the Philistine garrison, v. 4-1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and his armour-bearer climb over a rock, attack, and rout the garrison, v. 11-15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19960" cy="5276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276720" y="5105520"/>
            <a:ext cx="1314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ibea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742840" y="3505320"/>
            <a:ext cx="1143000" cy="175248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705720" y="228600"/>
            <a:ext cx="1952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hmas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505320" y="1143000"/>
            <a:ext cx="3124080" cy="121932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5867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Where Saul Wa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1600200"/>
            <a:ext cx="144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Where Jonathan met the Philistine Garris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3352680" y="0"/>
            <a:ext cx="1952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hmas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124080" y="533520"/>
            <a:ext cx="2667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ibeah of Sau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458200" cy="6458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rot="17529600">
            <a:off x="1098360" y="3092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Philisti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32767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Gibea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Jonathan Attacks The Philisti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 Sam 14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ul and his company see confusion in the Philistine ho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are emboldened to come out against the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men who had hidden themselves also came out to help figh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Philistines are defeated, v. 16-23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onathan Violates Saul’s Ord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Sam 14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aul felt he must avenge himself of his enem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put every man under a curse who might eat food until the even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 consequence of which the people are severely distressed, v. 24-26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nathan, not hearing the order, eats a little honey, which he found on the ground, v. 27-30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23:30:13Z</dcterms:created>
  <dc:creator>Terry W. Benton</dc:creator>
  <dc:description/>
  <dc:language>en-US</dc:language>
  <cp:lastModifiedBy>Terry W. Benton</cp:lastModifiedBy>
  <dcterms:modified xsi:type="dcterms:W3CDTF">2005-04-07T22:56:44Z</dcterms:modified>
  <cp:revision>5</cp:revision>
  <dc:subject/>
  <dc:title>The United Kingdom</dc:title>
</cp:coreProperties>
</file>